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你好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너，당신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谢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谢谢你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고마워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èxi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不客气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아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客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不客气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예의 바르다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èq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对不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对不起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미안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uìbuq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没关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没关系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괜찮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éi guānx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您好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당신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높임말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í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大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大家好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모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àji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早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早上好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아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ǎosha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好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你好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좋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ǎ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再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5"/>
          <p:cNvSpPr/>
          <p:nvPr/>
        </p:nvSpPr>
        <p:spPr>
          <a:xfrm rot="10800000">
            <a:off x="329760" y="4829040"/>
            <a:ext cx="627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굴림"/>
              </a:rPr>
              <a:t>再见</a:t>
            </a: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잘 가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헤어질 때 인사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àiji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明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明天见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내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íng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见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만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àn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老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老师好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선생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ǎosh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同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同学们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학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óngxu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你们好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e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后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后天见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모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òu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1:16:09Z</dcterms:modified>
  <cp:revision>26</cp:revision>
  <dc:subject/>
  <dc:title>슬라이드 1</dc:title>
</cp:coreProperties>
</file>